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76B-09AC-4C9A-83A4-79FB1AB3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230-2821-4CDB-B1B7-5A00CE69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173-E712-4903-AA2A-25E3DF8B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8B5-D1C8-4633-BFEC-2EF966CD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767-8D21-4158-B034-20D2D058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ECD-423D-4ADF-84F3-BB79542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0C5-3060-4021-9C1A-A2B3AC0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0D1-1B4D-44E4-8AD0-A8F55027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E8D-6D58-42D3-9736-64CFA5B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6FA-A6AB-4F85-A716-9F8F9C2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995-8547-4586-9361-F04989C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77B-4089-47D8-B2BA-AFCDC1D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60E-9E3C-47A5-A598-2EDDBD877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sati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33520" y="2133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ati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tie R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ing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aint and draw a satire.You are encouraged to create your own, but if you cannot think of one, then you may draw an example already cover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select groups for a group project where students will create a play or a video of a satire. Students will choose their own concept or ideal to sat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end of this lesson, students will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hat satir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nd recognize examples of satire in literature an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ati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irony, sarcasm, or ridicule to expose or denounce vice, foll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http://dictionary.reference.com/browse/sat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Satire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George Or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Being Earn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Oscar Wil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istc-1984"/>
          <p:cNvPicPr/>
          <p:nvPr/>
        </p:nvPicPr>
        <p:blipFill>
          <a:blip r:embed="rId1"/>
          <a:stretch/>
        </p:blipFill>
        <p:spPr>
          <a:xfrm>
            <a:off x="6705720" y="1752480"/>
            <a:ext cx="197964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ire in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pe of the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: Alexander P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de in Parties, and begin th' Attack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s clap, Silks russle, and tough Whalebones crack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oes and Heroins Shouts confus'dly ris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ase, and treble Voices strike the Ski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mmon Weapons in their Hands are found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Gods they fight, nor dread a mortal Woun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Satire i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: Sarah Pa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youtube.com/watch?v=tjZW4z9zqq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L: Snoo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youtube.com/watch?v=VlQjVm33u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ncess Bride--pokes fun at traditional heroic tales and roles of the hero, villain, lad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Guy, Futurama, The Simp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istc-princessbride"/>
          <p:cNvPicPr/>
          <p:nvPr/>
        </p:nvPicPr>
        <p:blipFill>
          <a:blip r:embed="rId1"/>
          <a:stretch/>
        </p:blipFill>
        <p:spPr>
          <a:xfrm>
            <a:off x="6553080" y="762120"/>
            <a:ext cx="2119320" cy="180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stc-family-guy"/>
          <p:cNvPicPr/>
          <p:nvPr/>
        </p:nvPicPr>
        <p:blipFill>
          <a:blip r:embed="rId2"/>
          <a:stretch/>
        </p:blipFill>
        <p:spPr>
          <a:xfrm>
            <a:off x="6172200" y="448308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istc-futurama"/>
          <p:cNvPicPr/>
          <p:nvPr/>
        </p:nvPicPr>
        <p:blipFill>
          <a:blip r:embed="rId3"/>
          <a:stretch/>
        </p:blipFill>
        <p:spPr>
          <a:xfrm>
            <a:off x="533520" y="4648320"/>
            <a:ext cx="3528720" cy="198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istc-Simpsons_Abbey-Road"/>
          <p:cNvPicPr/>
          <p:nvPr/>
        </p:nvPicPr>
        <p:blipFill>
          <a:blip r:embed="rId4"/>
          <a:stretch/>
        </p:blipFill>
        <p:spPr>
          <a:xfrm>
            <a:off x="4191120" y="2971800"/>
            <a:ext cx="24908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f an example of satire that has not been mentioned. Use your computer to find a video, a picture of a book, or any other piece of literature that is an example of sat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Sat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uffingtonpost.com/news/sa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atires in Litera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spiritus-temporis.com/satire/notable-examples-of-satir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atires in Fil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ouplescompany.com/features/ct/Movies/Satire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3:44:16Z</dcterms:created>
  <dc:creator>Katie Rizer</dc:creator>
  <dc:description/>
  <dc:language>en-US</dc:language>
  <cp:lastModifiedBy>evaluation</cp:lastModifiedBy>
  <dcterms:modified xsi:type="dcterms:W3CDTF">2010-12-07T16:28:18Z</dcterms:modified>
  <cp:revision>5</cp:revision>
  <dc:subject/>
  <dc:title>Satire</dc:title>
</cp:coreProperties>
</file>